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8DB5-8CE8-4B40-9C92-DB32DEACF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6F9F-DA69-4714-AB4A-911DA9E3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21F3-5AA4-495A-8E49-57EACE291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4C6D-99EA-4FD6-8B0E-43DBEBB96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1C53-56BB-449B-B25B-7470985BE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55B7-4034-4DBC-955D-36608AD6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BC938-1A30-4DA2-9113-E5251DFF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8489-FCDC-4333-98DB-0CEF8E37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47F4-4B6B-4186-A1AD-74403577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F591-C10E-4C5C-A71C-CFE98473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D5E1-1A35-4275-9C51-0F9D3D4B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4125-EF00-4789-8B13-54D1468E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B4E8-16AB-475A-A5C6-237C8843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9FBE-624C-403A-9E67-DDC21BD7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8B0B-A9F4-4E36-B4D6-0909D6D1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D7308-C2F9-4F3D-ACB8-33C7DC770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0591-971A-42DB-9DA9-4D130B321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1EAE-09B3-4190-A39E-235A8A11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2215-3503-497B-AFF3-4BF2EAFA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3CF4-70C9-4AAB-9CDC-3D3CA8B5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C550-8A6B-42EB-ABB8-ADCDA888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7653-5F0C-44ED-A9E0-519ACEE3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E5BC-28B2-4990-BC04-39D36516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D1F2-589F-41C5-BBB4-2FC5484E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BA82-2EC6-448B-9AF5-BCB859A698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2235-5B6E-4345-BBB5-67182E3B32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The Wonderful World of Geography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uch do you know about where you li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troduction to Geograph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uch do you know abou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estern Hemisphe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United States of Amer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Great State of Alaba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estern Hemisphe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is 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some countries that consist of 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you ever traveled outside of 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69343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b7"/>
                </a:solidFill>
                <a:latin typeface="Arial Black"/>
              </a:rPr>
              <a:t>The United States of America</a:t>
            </a:r>
            <a:endParaRPr b="1" lang="en-US" sz="3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have you be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vidual states and 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70866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labam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state capit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citi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re some key landforms and where are they locat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1625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onight’s Homewor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1.1-1.2 (pp.11-13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.1-1.2 boldface ter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p. 4 in your workbook (Geoterms 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kispace username and passw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6T19:00:18Z</dcterms:created>
  <dc:creator>vevans</dc:creator>
  <dc:description/>
  <dc:language>en-US</dc:language>
  <cp:lastModifiedBy>vevans</cp:lastModifiedBy>
  <dcterms:modified xsi:type="dcterms:W3CDTF">2009-08-17T15:03:30Z</dcterms:modified>
  <cp:revision>6</cp:revision>
  <dc:subject/>
  <dc:title>6th Grade Geography</dc:title>
</cp:coreProperties>
</file>